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138-9176-4444-9B79-3A79598F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0A3-5BC8-4876-BC17-057D791A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CD0-B961-4D89-899C-CF86EA0B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4FE-A100-4132-A92B-2EA255F0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0F3D-3854-4725-88F1-D3360A66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4723-B2E5-400F-8F99-82E8E868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0A57-F036-474F-9595-64FD1632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0C6E-7C91-41DF-BD6B-5424281F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C9CC-F4C5-40D0-8055-D3559AA1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15D3-292C-4619-8F2D-96D61E04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4EEA-79EE-45D3-AC43-F452BFE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188-F84F-48B7-A51E-FCBAE3C1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A1B6-F5E4-4675-90CC-00140EA9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F86C-89F2-4724-A73A-57AB3988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0E6E-4536-450F-B3C2-D660B0DD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E605-4DFE-4969-B51F-9558D181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8046-5B4F-4FA5-A8B0-144345E7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EE8-49E4-48F0-B7F5-952E9268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464-90E4-4EFC-9349-463DEF87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E7A-FABF-43EA-B536-1223E2B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DAA-2196-43B1-82AE-008C14D7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248-3CE5-4F92-BF3B-48C4C53B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42D-1D4E-4FD4-A129-1BF28171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A2C-D595-4398-A083-6AACEC38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CE63-2A4B-4D22-B73D-0E6DE83AA23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92FE-1184-40A5-9BFA-B5F5AAC6FBB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Mean, Median, Mode </a:t>
            </a:r>
            <a:br>
              <a:rPr sz="4800"/>
            </a:b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&amp; Range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50532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3733920"/>
            <a:ext cx="1371600" cy="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17220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1360" y="36576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240" y="3657600"/>
            <a:ext cx="30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# of adde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96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9600" y="41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72428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9600" y="47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4724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2819520"/>
            <a:ext cx="6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4048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53341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6172200"/>
            <a:ext cx="12193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594360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he mean or average of these numbers is 16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373400" y="358128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973240" y="236232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2668680" y="2286000"/>
            <a:ext cx="36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9, 1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440080" y="22860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7, 11, 1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1160" y="3886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440080" y="220968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, 33, 41, 5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3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in th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i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l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iddle number in a set of ordered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059200" y="335268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88080" y="480060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 = 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335268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44956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41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ahoma"/>
              </a:rPr>
              <a:t>Sum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answer to an addition proble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Addend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numbers you added together to get the su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743920" y="4648320"/>
            <a:ext cx="36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+ 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9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754280" y="34290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800600"/>
            <a:ext cx="746748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41911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42670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26708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3429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342900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9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4160" y="33526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502920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5257800"/>
            <a:ext cx="1905120" cy="0"/>
          </a:xfrm>
          <a:prstGeom prst="line">
            <a:avLst/>
          </a:prstGeom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44840" y="510552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4840" y="4419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409720" y="4800600"/>
            <a:ext cx="762120" cy="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33400" y="431784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1ff"/>
                </a:solidFill>
                <a:latin typeface="Times New Roman"/>
              </a:rPr>
              <a:t>media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2973240" y="182880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6, 10, 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8000" y="4267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560" y="28954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33920" y="2819520"/>
            <a:ext cx="1218960" cy="1218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11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9718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602000" y="1676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7, 2, 12, 14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260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7960" y="259092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7, 12, 14, 19, 3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2880" y="4267080"/>
            <a:ext cx="408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 + 14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78560" y="427032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1296720" y="1676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, 5, 81, 67, 25, 7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94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6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266688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2666880"/>
            <a:ext cx="121896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6560" y="4267080"/>
            <a:ext cx="446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 + 67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4419720"/>
            <a:ext cx="167652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78560" y="4270320"/>
            <a:ext cx="13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6720" y="2819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, 25, 53, 67, 78, 8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od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most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Popular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 la 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ost popular or that which is in fashion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352680"/>
            <a:ext cx="807696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96" name="CLOAC053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828800" cy="588960"/>
          </a:xfrm>
          <a:prstGeom prst="rect">
            <a:avLst/>
          </a:prstGeom>
          <a:ln w="0">
            <a:noFill/>
          </a:ln>
        </p:spPr>
      </p:pic>
      <p:pic>
        <p:nvPicPr>
          <p:cNvPr id="297" name="CLOAC062" descr=""/>
          <p:cNvPicPr/>
          <p:nvPr/>
        </p:nvPicPr>
        <p:blipFill>
          <a:blip r:embed="rId2"/>
          <a:stretch/>
        </p:blipFill>
        <p:spPr>
          <a:xfrm>
            <a:off x="1676520" y="4038480"/>
            <a:ext cx="2280960" cy="1119240"/>
          </a:xfrm>
          <a:prstGeom prst="rect">
            <a:avLst/>
          </a:prstGeom>
          <a:ln w="0">
            <a:noFill/>
          </a:ln>
        </p:spPr>
      </p:pic>
      <p:pic>
        <p:nvPicPr>
          <p:cNvPr id="298" name="CLOAC055" descr=""/>
          <p:cNvPicPr/>
          <p:nvPr/>
        </p:nvPicPr>
        <p:blipFill>
          <a:blip r:embed="rId3"/>
          <a:stretch/>
        </p:blipFill>
        <p:spPr>
          <a:xfrm>
            <a:off x="3657600" y="3429000"/>
            <a:ext cx="1606680" cy="1154160"/>
          </a:xfrm>
          <a:prstGeom prst="rect">
            <a:avLst/>
          </a:prstGeom>
          <a:ln w="0">
            <a:noFill/>
          </a:ln>
        </p:spPr>
      </p:pic>
      <p:pic>
        <p:nvPicPr>
          <p:cNvPr id="299" name="CLOAC072" descr=""/>
          <p:cNvPicPr/>
          <p:nvPr/>
        </p:nvPicPr>
        <p:blipFill>
          <a:blip r:embed="rId4"/>
          <a:stretch/>
        </p:blipFill>
        <p:spPr>
          <a:xfrm>
            <a:off x="4952880" y="4129200"/>
            <a:ext cx="2057400" cy="928440"/>
          </a:xfrm>
          <a:prstGeom prst="rect">
            <a:avLst/>
          </a:prstGeom>
          <a:ln w="0">
            <a:noFill/>
          </a:ln>
        </p:spPr>
      </p:pic>
      <p:pic>
        <p:nvPicPr>
          <p:cNvPr id="300" name="CLOAC075" descr=""/>
          <p:cNvPicPr/>
          <p:nvPr/>
        </p:nvPicPr>
        <p:blipFill>
          <a:blip r:embed="rId5"/>
          <a:stretch/>
        </p:blipFill>
        <p:spPr>
          <a:xfrm>
            <a:off x="6705720" y="3352680"/>
            <a:ext cx="1803240" cy="12668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78240" y="5334120"/>
            <a:ext cx="78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Baseball caps are a la mode toda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04812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05720" y="312408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number that appears most frequently in a set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06800" y="4800600"/>
            <a:ext cx="26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 = 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s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Avera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number that is repeated the mo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296720" y="19051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9, 9, 4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96720" y="297180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4, 9, 9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67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Ran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distanc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Betwee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Range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– the difference between the greatest and the least value in a set of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6960" y="480060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Range = 1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3429000"/>
            <a:ext cx="9907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lowest and highest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441972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48520" y="4419720"/>
            <a:ext cx="99036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3 – Find the difference between these 2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754280" y="32004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880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69040" y="4267080"/>
            <a:ext cx="365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7 – 18 =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720" y="5029200"/>
            <a:ext cx="45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The range is 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average of a group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287800" y="327672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7000" y="4724280"/>
            <a:ext cx="25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 = 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40080" y="426708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 – 4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5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04812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2720" y="4267080"/>
            <a:ext cx="403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2 – 21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1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2971800"/>
            <a:ext cx="8380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8, 3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 – 3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, 8, 11, 19, 3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3, 7, 9, 4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1 – 7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3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9, 23, 19, 4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541440" y="1913040"/>
            <a:ext cx="77551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part from ClickArt 125,000, T/Maker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ompany of Broderbund Software, Inc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edi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part from ClickArt 125,000, T/Maker Company of Broderbund Software, Inc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41911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37339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676520" y="3962520"/>
            <a:ext cx="914400" cy="106668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4343400"/>
            <a:ext cx="990360" cy="6858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36376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30481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mean = 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dd all the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449720" y="28195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0080" y="426708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449720" y="30481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0080" y="411480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5105520"/>
            <a:ext cx="73915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7:58:31Z</dcterms:created>
  <dc:creator>Monica/Bob Yuskaitis</dc:creator>
  <dc:description/>
  <dc:language>en-US</dc:language>
  <cp:lastModifiedBy>Monica/Bob Yuskaitis</cp:lastModifiedBy>
  <dcterms:modified xsi:type="dcterms:W3CDTF">2000-02-22T00:50:17Z</dcterms:modified>
  <cp:revision>3</cp:revision>
  <dc:subject/>
  <dc:title>Mean, Median, Mode  &amp; Range</dc:title>
</cp:coreProperties>
</file>